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D599-25E2-4AE6-9C3C-0BB6DAE47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A289-8C38-44EF-B9B8-136F7888C2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92C9-B242-4794-B183-E5A7D884D3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D8E7-B6D8-42DC-9464-53F9762881C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0137-F6C7-44D3-A43E-C1C603850E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3EF-AD11-4CF3-B134-080783A7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C09-3C3A-4FA8-A6A5-B1360A34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C5E-0BE9-4004-8184-A085AECA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BF3-847E-4463-9C2D-5EF311BE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C0EA-C67C-4423-B3DF-464DBDF0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8C7D-099F-4F53-B230-E5A7AF4A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7909-6309-4170-A348-6E6CF736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D6D9-67C8-41B0-A389-7131CC7D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FA1B-8138-4DE5-A1FD-FF1EEE7E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13B1-9B03-4E16-BE74-147CF52A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E662-0C92-4142-A312-B1C35FF5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A87-8DBE-49AC-BF22-97DEF602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AAA7-9C23-4394-8869-9D533F8F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B63F-2B80-44F5-9131-7BCA8075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9E69-8838-486C-AA12-7B536AA3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0409-C62E-4DB7-B41B-7CA5C8B7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EF2A-CE00-4487-908E-A20E05FD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C2189-38DF-481D-9856-C7CE63B6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6FEA-7FF6-4B69-852E-CD4E7C06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091B-D644-46DA-B02D-0D32A638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2E4E-92A6-4744-9D10-F56E832A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C404-90FA-423F-8B0B-8F609A9D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86A-A888-4359-9A6C-7F0B2AAF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4348-BB92-4209-ABF5-13C40964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FDD4F-B14E-4E33-B5E2-E9378FC9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DB887-1869-49B3-80CF-6524FB40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A894-D0A7-43EE-966D-B991E8A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F85A-9C7C-4C3D-9CE2-75A388FA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08E3-065B-44DD-96B9-391E7F4A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9BD3-81A7-494B-987B-7020C5C7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2434-0685-4A68-8AB1-EEBC0E91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D43C3-6FB9-49D9-A135-6E700769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0BF27-492C-4B7E-B879-4A803E3B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BB6-B061-4AD1-87BE-706D0F4C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CD8DE-D7A2-46B7-9C4C-C1A18D7C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C4007-C8B1-4248-96E1-D2099E9A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552D-07E9-41EA-B85E-25B8D0EF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D6D71-51EA-4D50-B548-1478562F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39BB-8105-4FF4-B75D-02A7F0A6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E5703-01F3-4555-BA75-8A6C6B43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494DA-9D8F-4D3C-BA9E-52E565AB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1F3F1-C7CC-49C9-B906-4B1940EC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64E7-385F-4581-9CE8-51ED0E50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D2C-13A2-41B2-8FDF-7910526E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B21-D120-4C4E-955B-EE82A683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051-D38F-4963-B0C3-6469E15F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8FC-54E5-471D-A23E-1A18E14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339-EE55-4A7C-98FC-302947FA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FC06-14B1-4B65-B53A-1C86D8551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140D-593F-4F81-A1F7-140F3C5D3A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81D0-1B18-4216-BD04-7D1F21A91B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862F-4A27-4FC4-90E0-3E9BF11628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Full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Prof.</a:t>
            </a:r>
            <a:r>
              <a:rPr b="0" lang="sr-Latn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Vladimir Juriš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in the structure of the wall of blood vess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cular disorde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ereditar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Rendu-Osler-Weber disea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reditary hemorrhagic telangiectasia, with numerous AV malformations)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Ehlers-Danlos-ов syndrome (collagen structure disord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еч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immune proces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chonlein-Henoch's purpura, S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lack of vitamin S (scurvy)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thelial cells lose their contact ability and collagen fiber synthesis is redu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senile atro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llagen fibers </a:t>
            </a: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(senile purpur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long-term treatment with corticosteroi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Cushing's disease (steroid purpura), due to protein break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iagram 2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platel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Quantitative disorder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the number of platelets (thrombocytopenia, less than 100,000/m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formation of plate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breakdown of plate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deposition of platelets in splenomegaly (up to 8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Qualitative disorder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platelet function (thrombocytopath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cytop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,000 - 400,000 cells/mm3  normal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100,000                                     thrombo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,000 - 100,000      moderate thrombo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50,000                     severe thrombo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10,000                      vital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platel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formation of platele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congenital disorders (rare, hereditary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Fanconi's anemia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order of genes for DNA repair enzymes, KS insufficie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Wiscott-Aldrich syndrom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-linked disease, eczema, thrombocytopenia and immunodeficiency, decreased IgM, increased IgA and IgE, IgG may be decreased or increas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cquired disorde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one marrow aplasia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iation, cytostatic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taking alcohol, drugs or hormone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trogen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lack of vitamin V12 or folic ac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telet athesia disorders and vWF defici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Content Placeholder 3" descr="S01871-004-f008"/>
          <p:cNvPicPr/>
          <p:nvPr/>
        </p:nvPicPr>
        <p:blipFill>
          <a:blip r:embed="rId1"/>
          <a:stretch/>
        </p:blipFill>
        <p:spPr>
          <a:xfrm>
            <a:off x="2311560" y="1798560"/>
            <a:ext cx="4520880" cy="41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platel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 разградња тромбоцит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Congenital thrombocytope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maternal immune reaction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etal platelets (similar to erythroblastosis fetali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autoantibodies in the mother's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stream enter the fetus's bloodstream via the placen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cquired thrombocytope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rugs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xic effect or type II or III hypersensitivity reaction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lood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us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xcessive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 in thrombotic thrombocytopenic purpura and DI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idiopathic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oimmune?) thrombocytopenic purpur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induced by thrombocytopen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rin -induced thrombocytope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It occu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3-5% of patients treated with unfractionated hepar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2 weeks after the introduction of ther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C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G antibodies against platelet factor 4 in a complex with heparin on the platelet memb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Pathogenes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sis, arterial and venous (leading to severe thrombocytop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ntibody binding causes platelet activation and aggre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Therap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rombocytopenia - stop treatment with hepar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lytic thrombocytopenic purpu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ongenital for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 of the metalloproteinase enzyme that cleaves vWF in a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latelet-rich thro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cquired for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antibodies that inhibit metalloprotein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5029200" y="990720"/>
            <a:ext cx="36655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chi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857400" cy="458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039920" cy="2629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4521240" y="5172120"/>
            <a:ext cx="46227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y do not fade und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ff.dg. angi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y are not palp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f. dg. vasculi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572000" y="1828800"/>
            <a:ext cx="417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ypical of disorders of platelet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thrombocytop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st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stas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bl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thromb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bl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the blood vesse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the number and function of plate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 factor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thromb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30" descr=""/>
          <p:cNvPicPr/>
          <p:nvPr/>
        </p:nvPicPr>
        <p:blipFill>
          <a:blip r:embed="rId1"/>
          <a:stretch/>
        </p:blipFill>
        <p:spPr>
          <a:xfrm>
            <a:off x="2971800" y="4967280"/>
            <a:ext cx="2895480" cy="1676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1630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thrombocytope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1028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973600" cy="41911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00240" y="21333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l Endanger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,000 cells/mm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occu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50,000 cells/mm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values: 150-400,000 cells/mm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029" descr=""/>
          <p:cNvPicPr/>
          <p:nvPr/>
        </p:nvPicPr>
        <p:blipFill>
          <a:blip r:embed="rId3"/>
          <a:stretch/>
        </p:blipFill>
        <p:spPr>
          <a:xfrm>
            <a:off x="2590920" y="1828800"/>
            <a:ext cx="21430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coagula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eredit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ll factors may be missing, the most common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Willebrand's dise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VIII deficiency (hemophilia 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IX deficiency (hemophilia V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cquire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Liver dise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Lack of vitamin 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destruction of intestinal flora by antibiotics or reduced fat absorption (VII, IX and X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Presence of coagulation inhibit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 on coagulation factors, paraproteinemia) lupus anticoagul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xcessive consump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agulation factors due to increased lysis of fibrino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liver failu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creased synthesis of factors that inactivate plasmin or inactivate plasminogen activato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malignant tumo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release proteolytic enzymes that break down fibrin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Willebrand's diseas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Hereditary disease with moderate bl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somal dominant 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I = most common (70% of all ca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nged bleeding time and normal platelet 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↓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plasma vWF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↓ factor VIII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trombociti"/>
          <p:cNvPicPr/>
          <p:nvPr/>
        </p:nvPicPr>
        <p:blipFill>
          <a:blip r:embed="rId1"/>
          <a:stretch/>
        </p:blipFill>
        <p:spPr>
          <a:xfrm>
            <a:off x="890640" y="973080"/>
            <a:ext cx="7572240" cy="56721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2971800" y="1143000"/>
            <a:ext cx="23623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otheli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086600" y="3230640"/>
            <a:ext cx="1414440" cy="57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j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629400" y="4724280"/>
            <a:ext cx="141444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te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905440" y="6111720"/>
            <a:ext cx="236232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telet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143000" y="1409760"/>
            <a:ext cx="137160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a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120680" y="2325600"/>
            <a:ext cx="1828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106640" y="2859120"/>
            <a:ext cx="1865160" cy="95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endothelial microfibr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ditary disease with severe bl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ia the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H chromoso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ess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% have no positive family history (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new mu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ibitors develop in 15% of severe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Arial"/>
              </a:rPr>
              <a:t>↓ </a:t>
            </a: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Arial"/>
              </a:rPr>
              <a:t>amount or activity of factor V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actor VIII = cofactor for the activation of factor X in the coagulation casc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usually exist in severe forms (factor VIII &lt;1% of normal values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leeding in the j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ruis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leeding after trauma or surgical inter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leeding after tooth ex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verity of hemophilia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hemophilia – below 2% FV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hemophilia – 2-10% FV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d hemophilia – 20–30% FV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emophilia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iciency F VIII) and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iciency F IX) are transmitted by H chromosomes and men become ill. Women are carriers, without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0" y="2438280"/>
            <a:ext cx="4435560" cy="3548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4419720" cy="3537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Von Willebrand</a:t>
            </a:r>
            <a:r>
              <a:rPr b="1" lang="en-US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diseas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 of the major fVIII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A (F VIII deficiency; 85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2560" y="1904760"/>
            <a:ext cx="5267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Spontaneous or traumatic subcutaneous ble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u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mouth, lips, tong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joi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C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gastro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5791320" y="1676520"/>
            <a:ext cx="3025800" cy="37335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5410080" y="5791320"/>
            <a:ext cx="373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 после интрамускуларне инје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X 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ed via the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X chromoso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cess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less represented (15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linically indistinguish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Hemophilia A and the laboratory results are simi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: determining the concentration of factor 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495680" y="1905120"/>
            <a:ext cx="4473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chymo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_x000b_slide04.tif                                                    0000003B_x0008_G3/8868A                       B2B8FD55:"/>
          <p:cNvPicPr/>
          <p:nvPr/>
        </p:nvPicPr>
        <p:blipFill>
          <a:blip r:embed="rId1"/>
          <a:stretch/>
        </p:blipFill>
        <p:spPr>
          <a:xfrm>
            <a:off x="2295360" y="1752480"/>
            <a:ext cx="2041560" cy="4643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5867280" y="3352680"/>
            <a:ext cx="294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ypical of coagulation factor defici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presentation of a lack of coagula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1" descr=""/>
          <p:cNvPicPr/>
          <p:nvPr/>
        </p:nvPicPr>
        <p:blipFill>
          <a:blip r:embed="rId1"/>
          <a:stretch/>
        </p:blipFill>
        <p:spPr>
          <a:xfrm>
            <a:off x="633240" y="2419200"/>
            <a:ext cx="752328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presentation of a lack of coagula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1027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510080" cy="35049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288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insu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st coagulation factors are synthesized in the li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1029"/>
          <p:cNvSpPr/>
          <p:nvPr/>
        </p:nvSpPr>
        <p:spPr>
          <a:xfrm>
            <a:off x="533520" y="548640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onjunctival hemorrh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hypercoagu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creased platelet activ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arterial thromb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 of platelet aggrega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ccelerated activity of the coagulation sys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nous thromb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 of fibrin complex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hypercoagu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Increase in the number of platelets (thrombocytosis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ssential thrombocythemi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lignant proliferation in the bone marrow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second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lignant blood tumors, connective tissue diseases, after splenectom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Increase in adhesiveness and aggregation ability of platele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isorders in blood flow and damage to the endotheliu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herosclero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cholesterol concent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isorders that increase the sensitivity of platelet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action of factors that cause athesia and aggregation of platelet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hypercoagu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Increased activity of the coagulation system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lood stasi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immobile patients or heart failur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isorders of the ratio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agulation factors and anticoagulation facto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- increasing the activity of coagulation facto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omen with an increased concentration of estrogen in the blood (oral contraceptives, older than 35 yea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nancy and puerper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tum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- </a:t>
            </a:r>
            <a:r>
              <a:rPr b="1" lang="en-US" sz="27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reducing the activity of anticoagulant facto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ditary disorders, complete lack of antithrombin III, plasminogen, proteins C and 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d intravascular coag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n acquired syndro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y systemic intravascular coagulatio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d intravascular coa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Consumptive coagulopath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consumable thrombohemorrhagic syndrom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defibrina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ck is a general disorder of hemosta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s a whole it includes disorde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agu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brinolytic mechanis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hibitors, quini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omplement syst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ism of ori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533520" y="21366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isorder begins with the activation of coagulation facto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agulation factors are used up and we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thrombi and 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brinolysis occu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centration of fibrin degradation products increases, platelet function is disrupted = bleeding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1052"/>
          <p:cNvSpPr/>
          <p:nvPr/>
        </p:nvSpPr>
        <p:spPr>
          <a:xfrm>
            <a:off x="2057400" y="5334120"/>
            <a:ext cx="24382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053"/>
          <p:cNvSpPr/>
          <p:nvPr/>
        </p:nvSpPr>
        <p:spPr>
          <a:xfrm>
            <a:off x="4267080" y="5334120"/>
            <a:ext cx="243864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genesis of DI</a:t>
            </a:r>
            <a:r>
              <a:rPr b="0" lang="sr-Latn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1042"/>
          <p:cNvSpPr/>
          <p:nvPr/>
        </p:nvSpPr>
        <p:spPr>
          <a:xfrm>
            <a:off x="3229920" y="185724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underlying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43"/>
          <p:cNvSpPr/>
          <p:nvPr/>
        </p:nvSpPr>
        <p:spPr>
          <a:xfrm>
            <a:off x="2021400" y="3000240"/>
            <a:ext cx="50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activation of coa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44"/>
          <p:cNvSpPr/>
          <p:nvPr/>
        </p:nvSpPr>
        <p:spPr>
          <a:xfrm>
            <a:off x="367200" y="3724200"/>
            <a:ext cx="203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va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osition of fib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45"/>
          <p:cNvSpPr/>
          <p:nvPr/>
        </p:nvSpPr>
        <p:spPr>
          <a:xfrm>
            <a:off x="6573240" y="3786120"/>
            <a:ext cx="198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let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gulation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46"/>
          <p:cNvSpPr/>
          <p:nvPr/>
        </p:nvSpPr>
        <p:spPr>
          <a:xfrm>
            <a:off x="2369160" y="57150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romb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47"/>
          <p:cNvSpPr/>
          <p:nvPr/>
        </p:nvSpPr>
        <p:spPr>
          <a:xfrm>
            <a:off x="4722480" y="57150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048"/>
          <p:cNvSpPr/>
          <p:nvPr/>
        </p:nvSpPr>
        <p:spPr>
          <a:xfrm>
            <a:off x="434340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50"/>
          <p:cNvSpPr/>
          <p:nvPr/>
        </p:nvSpPr>
        <p:spPr>
          <a:xfrm flipH="1" flipV="1">
            <a:off x="2666880" y="3580560"/>
            <a:ext cx="1067040" cy="1143000"/>
          </a:xfrm>
          <a:custGeom>
            <a:avLst/>
            <a:gdLst>
              <a:gd name="textAreaLeft" fmla="*/ 613800 w 1067040"/>
              <a:gd name="textAreaRight" fmla="*/ 900360 w 106704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51"/>
          <p:cNvSpPr/>
          <p:nvPr/>
        </p:nvSpPr>
        <p:spPr>
          <a:xfrm flipV="1">
            <a:off x="5334120" y="3580560"/>
            <a:ext cx="1066680" cy="1143000"/>
          </a:xfrm>
          <a:custGeom>
            <a:avLst/>
            <a:gdLst>
              <a:gd name="textAreaLeft" fmla="*/ 613800 w 1066680"/>
              <a:gd name="textAreaRight" fmla="*/ 900360 w 106668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54"/>
          <p:cNvSpPr/>
          <p:nvPr/>
        </p:nvSpPr>
        <p:spPr>
          <a:xfrm>
            <a:off x="6934320" y="5105520"/>
            <a:ext cx="1066680" cy="11430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55"/>
          <p:cNvSpPr/>
          <p:nvPr/>
        </p:nvSpPr>
        <p:spPr>
          <a:xfrm flipH="1">
            <a:off x="685080" y="5105520"/>
            <a:ext cx="1066680" cy="11430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of DI</a:t>
            </a:r>
            <a:r>
              <a:rPr b="0" lang="sr-Latn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2560" y="11430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f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psis (Gram (+) and Gram (-) bacteria), viral infections (Dengue, Ebola), others (rickettsia, malaria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rauma/tissue inju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ad injury, pancreatitis, fat embolism, penetrating and other severe woun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alignan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olid tumors, acute leukemias (especially AML-M3), chronic leukemias (CMML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omplications after childbir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acental abruption, amniotic fluid embolis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ascular disea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arge hemangiomas, large aortic aneurysm, vascular malform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erious allergic/toxic rea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xic shock, snake or spider bi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erious immune rea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ute post-transfusion haemolysis, heparin-induced thrombocytopenia, type II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sepsis: a complex clinical syndr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11040" y="4203720"/>
            <a:ext cx="400392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mortality (28%-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erogeneous patient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5"/>
          <p:cNvGrpSpPr/>
          <p:nvPr/>
        </p:nvGrpSpPr>
        <p:grpSpPr>
          <a:xfrm>
            <a:off x="4262400" y="2048040"/>
            <a:ext cx="4267080" cy="4069800"/>
            <a:chOff x="4262400" y="2048040"/>
            <a:chExt cx="4267080" cy="4069800"/>
          </a:xfrm>
        </p:grpSpPr>
        <p:sp>
          <p:nvSpPr>
            <p:cNvPr id="284" name="Oval 6"/>
            <p:cNvSpPr/>
            <p:nvPr/>
          </p:nvSpPr>
          <p:spPr>
            <a:xfrm>
              <a:off x="4262400" y="2048040"/>
              <a:ext cx="2438280" cy="243828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7"/>
            <p:cNvSpPr/>
            <p:nvPr/>
          </p:nvSpPr>
          <p:spPr>
            <a:xfrm>
              <a:off x="6091200" y="2048040"/>
              <a:ext cx="2438280" cy="243828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8"/>
            <p:cNvSpPr/>
            <p:nvPr/>
          </p:nvSpPr>
          <p:spPr>
            <a:xfrm>
              <a:off x="5176800" y="3571920"/>
              <a:ext cx="2438280" cy="243792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9"/>
            <p:cNvSpPr/>
            <p:nvPr/>
          </p:nvSpPr>
          <p:spPr>
            <a:xfrm>
              <a:off x="5786280" y="3190680"/>
              <a:ext cx="1219320" cy="1218960"/>
            </a:xfrm>
            <a:prstGeom prst="ellipse">
              <a:avLst/>
            </a:prstGeom>
            <a:solidFill>
              <a:srgbClr val="00bfec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0"/>
            <p:cNvSpPr/>
            <p:nvPr/>
          </p:nvSpPr>
          <p:spPr>
            <a:xfrm>
              <a:off x="6548400" y="5749920"/>
              <a:ext cx="380880" cy="36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1"/>
            <p:cNvSpPr/>
            <p:nvPr/>
          </p:nvSpPr>
          <p:spPr>
            <a:xfrm>
              <a:off x="4363920" y="3857400"/>
              <a:ext cx="380880" cy="36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"/>
            <p:cNvSpPr/>
            <p:nvPr/>
          </p:nvSpPr>
          <p:spPr>
            <a:xfrm>
              <a:off x="8015040" y="2282760"/>
              <a:ext cx="381240" cy="36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3"/>
          <p:cNvSpPr/>
          <p:nvPr/>
        </p:nvSpPr>
        <p:spPr>
          <a:xfrm>
            <a:off x="4408560" y="2616120"/>
            <a:ext cx="174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inflam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5551560" y="4780080"/>
            <a:ext cx="174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ed fibrin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6745320" y="2770200"/>
            <a:ext cx="17431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38120" y="310212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0504d"/>
                </a:solidFill>
                <a:latin typeface="Calibri"/>
                <a:ea typeface="Arial"/>
              </a:rPr>
              <a:t>Antithromb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732920" y="3030480"/>
            <a:ext cx="353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  <a:ea typeface="Arial"/>
              </a:rPr>
              <a:t>Thromboge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143000" y="2286000"/>
            <a:ext cx="5867280" cy="762120"/>
          </a:xfrm>
          <a:custGeom>
            <a:avLst/>
            <a:gdLst>
              <a:gd name="textAreaLeft" fmla="*/ 1026720 w 5867280"/>
              <a:gd name="textAreaRight" fmla="*/ 4253760 w 58672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912040" y="129528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lood vesse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94200" y="380988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Arial"/>
              </a:rPr>
              <a:t>(favor the liquid state of the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337720" y="380988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(favor coag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DI</a:t>
            </a:r>
            <a:r>
              <a:rPr b="0" lang="sr-Latn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Bleeding tendency in the presence of widespread thrombi in the circ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acute DI</a:t>
            </a:r>
            <a:r>
              <a:rPr b="1" lang="sr-Latn-RS" sz="2400" spc="-1" strike="noStrike">
                <a:solidFill>
                  <a:srgbClr val="558ed5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bleeding predomin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in childbirth complications and tra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chronic D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rombotic complications domin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in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Symptoms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to marked </a:t>
            </a: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shock, renal failure, dyspnea, cyanosis, convulsions and co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hypo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haracteristic sympt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cular ph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asoconstriction, tissue factor (TF) and prostacyclin release after blood vessel wall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cyte ph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hesia, aggregation, release of ADP and prostacyc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 factor activ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series of cascade reactions that lead to the production of thrombin and the conversion of fibrinogen to fibr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nolys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imits the spread of the thrombus outside the injury site, leads to lysis of the thrombus and wound he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trombociti 2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Content Placeholder 5" descr="blood clot.jpg"/>
          <p:cNvPicPr/>
          <p:nvPr/>
        </p:nvPicPr>
        <p:blipFill>
          <a:blip r:embed="rId1"/>
          <a:stretch/>
        </p:blipFill>
        <p:spPr>
          <a:xfrm>
            <a:off x="1066680" y="1676520"/>
            <a:ext cx="64008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increas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 tendency to bleed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morrhagic diathesis, hemorrhagic syndro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increas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blood coagulabi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endency to thrombosis and em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that increase the tendency to hemorrh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 the structure of the wall of blood vess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 the number and function of plate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 the concentration of blood coagulation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isorders can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c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06:33:02Z</dcterms:created>
  <dc:creator>Simonovic</dc:creator>
  <dc:description/>
  <dc:language>en-US</dc:language>
  <cp:lastModifiedBy>Jelena Đordjević</cp:lastModifiedBy>
  <dcterms:modified xsi:type="dcterms:W3CDTF">2023-08-22T14:59:38Z</dcterms:modified>
  <cp:revision>70</cp:revision>
  <dc:subject/>
  <dc:title>Поремећаји хемостазе</dc:title>
</cp:coreProperties>
</file>